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37D2-0555-4A02-87E4-E055B5C90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dark salmon paper with your general description, there is a wiki address.  This entire notebook is on this wiki.  I will also be posting addtinal things, such as a summary of a visit to Cabarrus County.  I will be inviting all of you to join this wik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B15-32CE-40A6-A1E4-022010A6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C0A-83D2-4002-9D68-FF45CD01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458-8BB3-48D7-BE1D-A6AFD2B6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AD2-70FB-4545-BDA0-188290ED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7F30-D15E-4635-942C-35CFD116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5E37-2376-478C-B686-6C93F530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6B8B-9555-4EE5-9605-7503807E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2A0E-14EF-4322-A34E-4DABF719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FDDB-DE27-4490-AA3A-AA304A9D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8C83-1C0C-47CD-9710-F0CBF623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C8B9-72E3-4A11-AEA7-C143B23F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DB04-B018-4B48-A0F7-7D2710C5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E03F-0B89-412D-B71F-8D1C6C0A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76A8-F9FB-4CB8-B8F7-0283AA28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8FD1-419C-4258-8B16-560D721E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E092-58EA-4EF5-A261-A6091527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8A67-1C27-4C78-B075-FF24EDBC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030-5A52-4BCE-863F-CA43E9F0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DF0-D804-4739-9AE5-D660D7C8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DC4-2A57-4E48-858C-25FEBE01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A5A-1C29-47E9-92C7-ABB1E74A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80B-A1D0-4A63-81C5-6D316CF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C1C6-AEFB-4B59-B312-9538DA00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140-9FC4-4228-9ABF-3EAD6FE1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E3A9-0F83-4AEF-99ED-59F57C88C67A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878E-8CDD-442B-AE2B-219D93A3790B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Implementation%20Guide.ppt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RtI Support Facilitator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rebuchet MS"/>
              </a:rPr>
              <a:t>Role and Responsibilit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 cont.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ttend support committee meeting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vide feedback to the district’s RtI team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ist with problem-solving through school and district concer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arn about updates, et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tative schedule:  Sept., Oct., Nov., Jan., March, and Ma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 cont.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ttend some PLC meeting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vide initial support in the discuss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viewing da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cussing students’ nee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interven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dentify what professional development may be need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 cont.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315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e a contact person for ques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Primary Rol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vide support to schools in implementing R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ssist the district with identifying resources and ways to streamline proce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Responsibilitie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tilize the implementation guide to support school’s implementation effor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rve as a member of the school’s implementation tea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vide feedback to the district’s support committee and the district’s RtI team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sist with problem-solving through school and district concern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ttend RtI Support Trai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verview of Rt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ponsibilities as a support pers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eting Protoco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ven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liance Iss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ier I, Tier II, Tier III, &amp; Standard Protocol logistic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IMSweb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 cont.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tilize implementation guide to support school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is a guide to help you identify where the school is in their implementation effor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s guide is to be used throughout the year, not a one time evaluation instrumen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8040"/>
                </a:solidFill>
                <a:uFillTx/>
                <a:latin typeface="Trebuchet MS"/>
                <a:hlinkClick r:id="rId2"/>
              </a:rPr>
              <a:t>Implementation Guid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Team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514600"/>
            <a:ext cx="7162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4080"/>
              </a:buClr>
              <a:buSzPct val="9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mplementation Team - This team discusses RtI implementation, including processes,etc.  This team also helps problem-solve through obstacl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004080"/>
              </a:buClr>
              <a:buSzPct val="9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tI Team - This team discusses individual studen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 cont.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ttend three RtI meetings:  Fall, Winter, Spr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are an observer and supporter, not a participa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r attendance may be needed more if more support is neede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mes of your attendance may need to be adjusted depending on the school’s caseload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General Description cont.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ttend monthly implementation team meeting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should be a strong participant, but not the lead facilitato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f needed, assist lead facilitator with developing an agenda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e School Implementation Team’s Responsibiliti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18:20:30Z</dcterms:created>
  <dc:creator>Chatham County Schools</dc:creator>
  <dc:description/>
  <dc:language>en-US</dc:language>
  <cp:lastModifiedBy>Chatham County Schools</cp:lastModifiedBy>
  <dcterms:modified xsi:type="dcterms:W3CDTF">2010-06-24T13:53:48Z</dcterms:modified>
  <cp:revision>16</cp:revision>
  <dc:subject/>
  <dc:title>RtI Support Person</dc:title>
</cp:coreProperties>
</file>